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7DFB-5689-46A2-86D9-5DDB793B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9360" y="386892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F19F-7857-4D77-8B00-A5C54896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4936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8CC0-215F-4088-888D-55C6CC89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8440" y="160020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160" y="160020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9360" y="386892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8440" y="386892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160" y="386892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5AE6-6CD7-47EA-BABD-FBB41731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C767-17FC-4CEA-95E8-A8336945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C4E5-C906-41E7-ADD8-AE95096D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8E15-DC44-4EE3-AC27-6AB668B8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428B-D814-4CA7-A8CC-F4432AD7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7330-1C71-46F6-8622-1023F3BD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36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857B-B5CF-42B1-86AE-F5966442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36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AAD8-08EC-4C53-8D80-E26A6579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2AB5-3785-42C9-B154-5416C605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802F-ADF1-421F-A5D2-AE4D50EB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360" y="386892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E807-D998-4818-B22A-CCF8CB0F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360" y="386892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8963-0425-472B-BE3A-8D0E0763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36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3D83-7717-4AE6-8794-305D0699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440" y="160020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160" y="160020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360" y="386892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440" y="386892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160" y="386892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B1E2-79D3-466D-B744-35B7BE8A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0CC5-F824-4742-BB4F-B02853E3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5D30-B1B9-4F2F-9143-7FF30428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7F87-E03C-41F0-A883-BD4CC629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4936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A5C5-990F-4DED-A089-DBC07688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936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AC9B-BCF3-449F-92F3-040F3458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029F-A3B5-4A7A-BA66-D8EEDD74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49360" y="386892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FDAE-181E-4F9C-B8A8-9F499623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328040" y="1295280"/>
            <a:ext cx="6487200" cy="3152520"/>
          </a:xfrm>
          <a:prstGeom prst="rect">
            <a:avLst/>
          </a:prstGeom>
          <a:noFill/>
          <a:ln w="3175">
            <a:solidFill>
              <a:srgbClr val="ffffff"/>
            </a:solidFill>
            <a:round/>
          </a:ln>
          <a:effectLst>
            <a:outerShdw algn="ctr" blurRad="63360" rotWithShape="0" sx="100500" sy="10050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23000" y="1523880"/>
            <a:ext cx="6497640" cy="172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CA" sz="4600" spc="-1" strike="noStrike">
                <a:solidFill>
                  <a:schemeClr val="accent1"/>
                </a:solidFill>
                <a:latin typeface="News Gothic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5629680" y="6275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64600" y="6275520"/>
            <a:ext cx="4840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898040" y="6275520"/>
            <a:ext cx="990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E23CC4-C846-457C-8D84-3F34E0D53F9C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600" spc="-1" strike="noStrike">
                <a:solidFill>
                  <a:schemeClr val="accent1"/>
                </a:solidFill>
                <a:latin typeface="News Gothic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CA" sz="2400" spc="-1" strike="noStrike">
                <a:solidFill>
                  <a:srgbClr val="595959"/>
                </a:solidFill>
                <a:latin typeface="News Gothic MT"/>
              </a:rPr>
              <a:t>Click to edit Master text styl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CA" sz="2200" spc="-1" strike="noStrike">
                <a:solidFill>
                  <a:srgbClr val="595959"/>
                </a:solidFill>
                <a:latin typeface="News Gothic MT"/>
              </a:rPr>
              <a:t>Second level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CA" sz="2000" spc="-1" strike="noStrike">
                <a:solidFill>
                  <a:srgbClr val="595959"/>
                </a:solidFill>
                <a:latin typeface="News Gothic MT"/>
              </a:rPr>
              <a:t>Third leve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CA" sz="1800" spc="-1" strike="noStrike">
                <a:solidFill>
                  <a:srgbClr val="595959"/>
                </a:solidFill>
                <a:latin typeface="News Gothic MT"/>
              </a:rPr>
              <a:t>Fourth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CA" sz="1800" spc="-1" strike="noStrike">
                <a:solidFill>
                  <a:srgbClr val="595959"/>
                </a:solidFill>
                <a:latin typeface="News Gothic MT"/>
              </a:rPr>
              <a:t>Fifth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9680" y="6275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600" y="6275520"/>
            <a:ext cx="4840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8040" y="6275520"/>
            <a:ext cx="990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906664-1F01-4DD1-8ED8-7A21D585F844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3000" y="1523880"/>
            <a:ext cx="6497640" cy="172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chemeClr val="accent1"/>
                </a:solidFill>
                <a:latin typeface="News Gothic MT"/>
              </a:rPr>
              <a:t>Design Skills: Use Cases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3000" y="3299040"/>
            <a:ext cx="649764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8b8b8b"/>
                </a:solidFill>
                <a:latin typeface="News Gothic MT"/>
              </a:rPr>
              <a:t>TA: Shreya Raw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chemeClr val="accent1"/>
                </a:solidFill>
                <a:latin typeface="News Gothic MT"/>
              </a:rPr>
              <a:t>Last Class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952520" cy="51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chemeClr val="accent1"/>
                </a:solidFill>
                <a:latin typeface="News Gothic MT"/>
              </a:rPr>
              <a:t>Types of Actors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re are 3 types of acto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ole (User): A person in the business environment. NOTE: Not a specific person. A Role that a person would take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ystem: An external system which uses the system: Eg. accounting syste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vice: An external device which interfaces with the system: Eg. Handheld scanner or Serve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chemeClr val="accent1"/>
                </a:solidFill>
                <a:latin typeface="News Gothic MT"/>
              </a:rPr>
              <a:t>Use Case: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var Jacobson defines a "Use Case" as "a sequence of transactions performed by the system which yields a measurable result of value for a particular actor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Use Cases describe "what" the system doe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Use cases represent an external view of the system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A complete set of Use Cases describe the scope of the system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chemeClr val="accent1"/>
                </a:solidFill>
                <a:latin typeface="News Gothic MT"/>
              </a:rPr>
              <a:t>Writing and Identifying a Use Case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 Use-Case describes what the system DO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Does not describe what the system "must" do, "should" do or "could" do.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dentify the goals of each acto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hat do the actors require from the system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he actor arrives, interacts with the system, then leaves.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view requiremen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dentify tasks which the system must perfor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chemeClr val="accent1"/>
                </a:solidFill>
                <a:latin typeface="News Gothic MT"/>
              </a:rPr>
              <a:t>Headings in Use Case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* Name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(Name of the Use Cas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* Description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(Describes the functionality of the use cas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* Primary Actors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(Actors which are directly involved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Secondary Actors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(Actors which are not directly involved but can access/affect the Use Cas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Preconditions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(Conditions which must be fulfilled before that Use Case can do its functionality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* Main Flow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(Step by Step description of the main flow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Postconditions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(Conditions which must be fulfilled after that Use Case has done its functionality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Alternative Flows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(Possible alternative options for the same use-cas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Breeze">
  <a:themeElements>
    <a:clrScheme name="Breeze">
      <a:dk1>
        <a:srgbClr val="000000"/>
      </a:dk1>
      <a:lt1>
        <a:srgbClr val="ffffff"/>
      </a:lt1>
      <a:dk2>
        <a:srgbClr val="09213b"/>
      </a:dk2>
      <a:lt2>
        <a:srgbClr val="d5edf4"/>
      </a:lt2>
      <a:accent1>
        <a:srgbClr val="2c7c9f"/>
      </a:accent1>
      <a:accent2>
        <a:srgbClr val="244a58"/>
      </a:accent2>
      <a:accent3>
        <a:srgbClr val="e2751d"/>
      </a:accent3>
      <a:accent4>
        <a:srgbClr val="ffb400"/>
      </a:accent4>
      <a:accent5>
        <a:srgbClr val="7eb606"/>
      </a:accent5>
      <a:accent6>
        <a:srgbClr val="c00000"/>
      </a:accent6>
      <a:hlink>
        <a:srgbClr val="7030a0"/>
      </a:hlink>
      <a:folHlink>
        <a:srgbClr val="00b0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reeze">
  <a:themeElements>
    <a:clrScheme name="Breeze">
      <a:dk1>
        <a:srgbClr val="000000"/>
      </a:dk1>
      <a:lt1>
        <a:srgbClr val="ffffff"/>
      </a:lt1>
      <a:dk2>
        <a:srgbClr val="09213b"/>
      </a:dk2>
      <a:lt2>
        <a:srgbClr val="d5edf4"/>
      </a:lt2>
      <a:accent1>
        <a:srgbClr val="2c7c9f"/>
      </a:accent1>
      <a:accent2>
        <a:srgbClr val="244a58"/>
      </a:accent2>
      <a:accent3>
        <a:srgbClr val="e2751d"/>
      </a:accent3>
      <a:accent4>
        <a:srgbClr val="ffb400"/>
      </a:accent4>
      <a:accent5>
        <a:srgbClr val="7eb606"/>
      </a:accent5>
      <a:accent6>
        <a:srgbClr val="c00000"/>
      </a:accent6>
      <a:hlink>
        <a:srgbClr val="7030a0"/>
      </a:hlink>
      <a:folHlink>
        <a:srgbClr val="00b0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reeze.thmx</Template>
  <TotalTime>29</TotalTime>
  <Application>LibreOffice/7.4.7.2$Linux_X86_64 LibreOffice_project/40$Build-2</Application>
  <AppVersion>15.0000</AppVersion>
  <Words>322</Words>
  <Paragraphs>31</Paragraphs>
  <Company>University of Calgar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5:58:12Z</dcterms:created>
  <dc:creator>Shreya Rawal</dc:creator>
  <dc:description/>
  <dc:language>en-US</dc:language>
  <cp:lastModifiedBy>Shreya Rawal</cp:lastModifiedBy>
  <dcterms:modified xsi:type="dcterms:W3CDTF">2009-04-01T16:27:16Z</dcterms:modified>
  <cp:revision>7</cp:revision>
  <dc:subject/>
  <dc:title>Design Skills: Use C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6</vt:r8>
  </property>
</Properties>
</file>